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710-4E6B-4889-80AD-815BCFAF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4D0-DF4C-47EF-BFCA-3F16F343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B0E-5A0E-4329-BA0A-498F80E3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9F4-3E40-4FEE-9853-4ED2F946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9CC-9F16-434F-A62B-0914E0C3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629-FF11-4C01-963B-550A4EFA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AD3-E5C2-4A32-B4EC-F675C5C9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31C-3F3F-43E7-995E-524B5C5C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5B5-F35A-424B-A652-D28495BB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81C-DC56-4AE2-8B12-C4926412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030-3337-4AF4-B579-A6C954BE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F97-DA51-4BB6-A047-A50CE778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C442-109A-4FE0-AD27-E43439401C83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59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971800" y="838080"/>
            <a:ext cx="6019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رحمني يا الله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رحمني يا الله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كعظيم رحمتكَ وكمثلِ رأفتك..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6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952880" y="533520"/>
            <a:ext cx="35816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محُ مآثمي يا الله..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رحمني يا الله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15600" cy="692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04920" y="5486400"/>
            <a:ext cx="83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غسلني كثيراً من إثمي ومن خطيئتي طهر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876920" y="368280"/>
            <a:ext cx="406224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لأني أنا عا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بأثام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99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5867280" y="457200"/>
            <a:ext cx="317664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كَ وحدكَ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خطئتُ...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والشرَّ قدامك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صنعتُ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يا الله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47920" y="4343400"/>
            <a:ext cx="44956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رحمني يا الل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28600" y="4381560"/>
            <a:ext cx="838188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ا تطرحني من أمامِ وجهك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وروحكَ القدوس لا تنزعه م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6248520" y="1066680"/>
            <a:ext cx="28191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نجني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من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لدماء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274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657600" y="762120"/>
            <a:ext cx="518148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ولك يليق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لمجدُ يا الل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رحمني يا الل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50:21Z</dcterms:created>
  <dc:creator>user</dc:creator>
  <dc:description/>
  <dc:language>en-US</dc:language>
  <cp:lastModifiedBy>user</cp:lastModifiedBy>
  <dcterms:modified xsi:type="dcterms:W3CDTF">2006-09-01T13:37:14Z</dcterms:modified>
  <cp:revision>9</cp:revision>
  <dc:subject/>
  <dc:title>Slide 1</dc:title>
</cp:coreProperties>
</file>